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8.jpeg" ContentType="image/jpeg"/>
  <Override PartName="/ppt/media/image2.pct" ContentType="image/x-pict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FEC8-4277-423B-A816-C49BC99ED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CF30-429A-403A-AD48-F7194EC51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8657-5DD6-41E5-8596-99D7C46BD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B18D-8674-4ABF-871F-8FA54961B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AB29-2A5B-4877-9EC4-71F7577AE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C5A5-EA1E-43B8-9F1F-2C4077265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BE64-F26B-4694-9A39-59AFCE2C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47F4-3257-4A15-AD32-DD58A321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F446-A652-4787-A38A-51D3FCAD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11F8-E1DA-4505-A641-3BAC0FA93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5B09-63DD-412D-8903-696FF5EC0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D686-1BD2-4B4A-B6CB-F943BE49B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40080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0080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5" name="Text Box 47"/>
          <p:cNvSpPr/>
          <p:nvPr/>
        </p:nvSpPr>
        <p:spPr>
          <a:xfrm>
            <a:off x="1600200" y="6400800"/>
            <a:ext cx="562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ctronic Communications: A Systems Appro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Beasley | Hymer | Mi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39612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1016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2"/>
          <p:cNvSpPr/>
          <p:nvPr/>
        </p:nvSpPr>
        <p:spPr>
          <a:xfrm>
            <a:off x="3240" y="0"/>
            <a:ext cx="9140760" cy="1600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ELECTRONIC COMMUN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67ab"/>
                </a:solidFill>
                <a:latin typeface="Verdana"/>
              </a:rPr>
              <a:t>A SYSTEMS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5154840" y="2971800"/>
            <a:ext cx="15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5" descr="0132988631b.jpg"/>
          <p:cNvPicPr/>
          <p:nvPr/>
        </p:nvPicPr>
        <p:blipFill>
          <a:blip r:embed="rId4"/>
          <a:stretch/>
        </p:blipFill>
        <p:spPr>
          <a:xfrm>
            <a:off x="609480" y="1905120"/>
            <a:ext cx="321624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50" name="Text Box 47"/>
          <p:cNvSpPr/>
          <p:nvPr/>
        </p:nvSpPr>
        <p:spPr>
          <a:xfrm>
            <a:off x="1600200" y="6400800"/>
            <a:ext cx="562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ctronic Communications: A Systems Appro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Beasley | Hymer | Mi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40080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0080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7"/>
          <p:cNvSpPr/>
          <p:nvPr/>
        </p:nvSpPr>
        <p:spPr>
          <a:xfrm>
            <a:off x="1600200" y="6400800"/>
            <a:ext cx="562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ctronic Communications: A Systems Appro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Beasley | Hymer | Mi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36F24-FB5C-4371-B37B-501B58A9B53F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E8B46-4C7C-49B8-ADDE-12F196C69B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5029200" y="3809880"/>
            <a:ext cx="38098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Telephone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6736320" y="2558880"/>
            <a:ext cx="66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Verdana"/>
                <a:ea typeface="Arial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Basic Telephone Oper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ges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s unable to reach their destination as result of excess demand for system capacit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Basic Telephone Oper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raffic Observation and Measure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inuous traffic measurement done to detect and resolve potential sources of conges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ffic measurement studies determine customer calling patterns; basis for discounted toll rat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igital Wired Network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munication Links and Protocol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mplex commun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e direction onl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lf duplex commun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oth directions but only one can talk at a tim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oth parties can talk at same tim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igital Wired Network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munication Links and Protocol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nchronous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ransmit- and receive-data clocks locked togethe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ynchrono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ocks on transmitter and receiver not locked togethe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igital Wired Network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munication Links and Protocol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tocol major function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ram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ne 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low 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quence 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igital Wired Network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munication Links and Protocol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toc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ponsible for integration of control characters within data stream and classified according to their framing techniqu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igital Wired Network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ine Co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mat of pulses sent over communications link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a first be coded or prepared for transmis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iminates need for data states to be represented in terms of absolute voltage leve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igital Wired Network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ine Co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intaining synchronization between transmitter and receiver clock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able a form of error detec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igital Wired Network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ine Co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RZ group of codes: encoding binary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Table 9-1: NRZ Cod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14600" y="308592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9-1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NRZ Codes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Picture 4" descr="tab09_01.jpg"/>
          <p:cNvPicPr/>
          <p:nvPr/>
        </p:nvPicPr>
        <p:blipFill>
          <a:blip r:embed="rId1"/>
          <a:stretch/>
        </p:blipFill>
        <p:spPr>
          <a:xfrm>
            <a:off x="1184400" y="228600"/>
            <a:ext cx="677520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Basic Telephone Oper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elephone Syste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le means “far” and phone means “sound.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ldwide grid of connections; point-to-point communications between many subscribe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igital Wired Network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ine Co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Z codes: return-to-zero line-coding forma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Table 9-2: RZ Cod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14600" y="308592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9-2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RZ Codes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Picture 2" descr="tab09_02.jpg"/>
          <p:cNvPicPr/>
          <p:nvPr/>
        </p:nvPicPr>
        <p:blipFill>
          <a:blip r:embed="rId1"/>
          <a:stretch/>
        </p:blipFill>
        <p:spPr>
          <a:xfrm>
            <a:off x="228600" y="482760"/>
            <a:ext cx="8686800" cy="549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igital Wired Network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ine Co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phase cod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in optical systems, satellite telemetry links, magnetic recording system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Table 9-3: Phase-Encoded and Delay-Modulation (Miller) Cod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14600" y="308592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9-3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Phase-Encoded and Delay-Modulation (Miller) Codes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Picture 2" descr="tab09_03.jpg"/>
          <p:cNvPicPr/>
          <p:nvPr/>
        </p:nvPicPr>
        <p:blipFill>
          <a:blip r:embed="rId1"/>
          <a:stretch/>
        </p:blipFill>
        <p:spPr>
          <a:xfrm>
            <a:off x="1371600" y="228600"/>
            <a:ext cx="644688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igital Wired Network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ine Co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evel binary cod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re than two levels representing the dat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Table 9-4: Multilevel Binary Cod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14600" y="308592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9-4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Multilevel Binary Codes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Picture 3" descr="tab09_04.jpg"/>
          <p:cNvPicPr/>
          <p:nvPr/>
        </p:nvPicPr>
        <p:blipFill>
          <a:blip r:embed="rId1"/>
          <a:stretch/>
        </p:blipFill>
        <p:spPr>
          <a:xfrm>
            <a:off x="228600" y="1644480"/>
            <a:ext cx="8686800" cy="335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igital Wired Network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ine Co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nsition between logic states results in fast change in rise or fall times of transmitted puls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igital Wired Network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ine Co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ing scheme chosen determined by available bandwidth and need for transmitter and receiver to maintain synchroniz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T-Carrier System and Multiplexing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ime-Division Multiplexing (TDM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ach information signal accesses entire channel bandwidth for only small part of available tim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T-Carrier System and Multiplexing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ime-Division Multiplexing (TDM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ime-division multiple access (TDMA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ransport data from multiple sources over same serial data channel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-carrier TDM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CM data from channel 1 transmitted first, then data from channel 2, and so on in sequence before process repea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Basic Telephone Oper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elephone Syste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unction of PBX and central office is the sa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witching one telephone line to anothe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RSCHT function for their li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ircuitry residing on line cards hand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T-Carrier System and Multiplexing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ime-Division Multiplexing (TDM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1 li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pacity for 24 individual, 64-kbps, time-division-multiplexed telephone call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actional T1 (FT1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ly portion of T1 bandwidth being us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T-Carrier System and Multiplexing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ime-Division Multiplexing (TDM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int of pres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int where communication carrier brings in service to a facilit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nel service unit/data service unit (CSU/DSU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Table 9-7: The CSU/DSU Alar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514600" y="308592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9-7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The CSU/DSU Alarms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8" name="Picture 7" descr="tab09_07.jpg"/>
          <p:cNvPicPr/>
          <p:nvPr/>
        </p:nvPicPr>
        <p:blipFill>
          <a:blip r:embed="rId1"/>
          <a:stretch/>
        </p:blipFill>
        <p:spPr>
          <a:xfrm>
            <a:off x="228600" y="2157480"/>
            <a:ext cx="8686800" cy="233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T-Carrier System and Multiplexing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ime-Division Multiplexing (TDM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am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intain synchronization of receiving equipm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Table 9-8: The Function of the 24 ESF Framing Bi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514600" y="297144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9-8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The Function of the 24 ESF Framing Bits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2" name="Picture 9" descr="tab09_08.jpg"/>
          <p:cNvPicPr/>
          <p:nvPr/>
        </p:nvPicPr>
        <p:blipFill>
          <a:blip r:embed="rId1"/>
          <a:stretch/>
        </p:blipFill>
        <p:spPr>
          <a:xfrm>
            <a:off x="228600" y="1843200"/>
            <a:ext cx="8686800" cy="297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T-Carrier System and Multiplexing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ime-Division Multiplexing (TDM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pback capa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uses transmitted data to be routed back to originating loc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T-Carrier System and Multiplexing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ime-Division Multiplexing (TDM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1 line co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MI and B8Z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capacity and bit rate are not unlimit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Packet-Switched Network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rame Rela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cket switching network designed to carry data traffic over public data network (PDN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a channels will not introduce bit errors or, at worst-case, minimal bit erro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itted information rate (CIR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itted burst information rate (CBIR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Packet-Switched Network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synchronous Transfer Mode (ATM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ll relay technique designed for voice, data, video traffi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ckets or cells processed at switching centers and directed to best network for delive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rtual path connection (VPC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rtual channel connection (VCC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Table 9-9: The Five ATM Service Class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514600" y="308592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9-9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The Five ATM Service Classes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2" name="Picture 4" descr="tab09_09.jpg"/>
          <p:cNvPicPr/>
          <p:nvPr/>
        </p:nvPicPr>
        <p:blipFill>
          <a:blip r:embed="rId1"/>
          <a:stretch/>
        </p:blipFill>
        <p:spPr>
          <a:xfrm>
            <a:off x="228600" y="1884240"/>
            <a:ext cx="8686800" cy="299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Basic Telephone Oper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ine Quality Considera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cable infrastructure in U.S. 50 years ol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ignaling System 7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S7 uses physical out-of-band signaling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SDN and SS7 follow guidelines provided by OSI model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tocol analyz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rt through messages to identify a probl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roubleshooting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gital communications troubleshoot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gnize digital pulse distortion and identify what causes i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good pulse wavefor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frequency distor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effects of incorrect impedance on square wav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noise on digital wavefor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roubleshooting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Digital Wavefor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quare-wave signal is digital wavefor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ffects of Noise on the Puls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gnal’s amplitude changed by noise adding to it or subtracting from i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ffects of Impedance on the Puls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quare wave pulse can show effects of impedance mismatch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roubleshooting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ffects of Frequency on the Puls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gital pulses will not be distorted when passing through amplifier with sufficient bandwidth or transmission line with sufficient bandwidt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ye Patter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nerated by “overlaying” on oscilloscope all digital bit signals receiv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Basic Telephone Oper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ttenuation Distor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l loop for telephone transmiss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wo-wire twisted-pair cab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nsmission dependent on wire diameter, conductor spacing, dielectric constant of insul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istance of copper causes signal attenu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Basic Telephone Oper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ttenuation Distor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igher-frequency attenuation greatly curtailed by adding inductance in series with the c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tenuation distor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ifference in gain or loss at frequency with respect to reference tone 1004 Hz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Basic Telephone Oper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lay Distor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gnal traveling down transmission line experiences some delay from input to outpu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Basic Telephone Oper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elephone Traffic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nsifies between 9:00 and 11:00 in morning and 2:00 and 4:00 in afterno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Basic Telephone Oper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Unit of Traffic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un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ircuit or path that carries its usage for one traffic call at a tim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ffic capacity of group of trun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ature or distribution of call durations or holding tim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7T12:47:34Z</dcterms:created>
  <dc:creator>Thomas Dunn</dc:creator>
  <dc:description/>
  <dc:language>en-US</dc:language>
  <cp:lastModifiedBy>Thomas Dunn</cp:lastModifiedBy>
  <dcterms:modified xsi:type="dcterms:W3CDTF">2013-05-14T05:23:43Z</dcterms:modified>
  <cp:revision>5</cp:revision>
  <dc:subject/>
  <dc:title>Slide 1</dc:title>
</cp:coreProperties>
</file>